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21D-8224-4D7F-8DD4-0B03C979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F3F-1170-4189-B91C-3E7B3DFD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A39-0B3D-4759-AA4E-22D0B799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E1C-886B-4AAA-B8AD-9BD34834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A5C-319B-499B-8CDD-4AE3084C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D0C-D6B5-4CC1-84A9-E310A368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58F-B6FE-42D7-A1A2-7C4E637B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A6E-13FA-49B7-A097-513993EB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C37-DDFD-42E8-BA60-0A0B620D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9FB-E9C8-485B-9E7D-6C8D5A73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7C2-C9D4-496B-B45A-E3FFA3E8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AE1-31DA-4A0D-A742-01F842B0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BD1F5E-8A70-46E0-BDA5-341B3A12D1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4.xml"/><Relationship Id="rId8" Type="http://schemas.openxmlformats.org/officeDocument/2006/relationships/slide" Target="slide18.xml"/><Relationship Id="rId9" Type="http://schemas.openxmlformats.org/officeDocument/2006/relationships/slide" Target="slide3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9.xml"/><Relationship Id="rId14" Type="http://schemas.openxmlformats.org/officeDocument/2006/relationships/slide" Target="slide17.xml"/><Relationship Id="rId15" Type="http://schemas.openxmlformats.org/officeDocument/2006/relationships/slide" Target="slide8.xml"/><Relationship Id="rId16" Type="http://schemas.openxmlformats.org/officeDocument/2006/relationships/slide" Target="slide6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a famous African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Africa's largest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pti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ile Crocod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45396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. It was established in 19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51000" y="1247760"/>
            <a:ext cx="6640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imbabwe was established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91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is Mt. Kilimanja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ca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 is the world's second-m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ulous contin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9120" y="2057400"/>
            <a:ext cx="57657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another name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wildebee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is the president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Morgan Tsvangir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Arthur Mutamb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 Robert Muga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obert Muga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Africa's largest l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2536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ke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. Red, blue, white, yellow, black, and g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2880" y="1247760"/>
            <a:ext cx="63867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olors are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 fla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argest frog in the world i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eroon, Afric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long can this frog get to 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5120"/>
            <a:ext cx="1600200" cy="764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frican Anim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28600"/>
            <a:ext cx="1828800" cy="4291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Zimbabw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228600"/>
            <a:ext cx="1600200" cy="764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frican Geograp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15084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3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of the following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ital of Zimbab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e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ko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capitals of 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 Town, Bloemfontein, and Pre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average rainf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frica? (per yea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 0-5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 10-20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 30-40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5396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0-20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22536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00280" y="1963800"/>
            <a:ext cx="63165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re groups of Afri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ons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9144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imbabwe is a country in 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part of Africa is it loca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North, South, East, or Wes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536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ern part of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9144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smallest country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ych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is a beautiful woven clot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originated in 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is cloth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t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with the longest neck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a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ly 1 percent of this country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2536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ountries do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t Charles School System</cp:lastModifiedBy>
  <cp:lastPrinted>2001-01-31T16:21:13Z</cp:lastPrinted>
  <dcterms:modified xsi:type="dcterms:W3CDTF">2001-01-31T16:40:52Z</dcterms:modified>
  <cp:revision>5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